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AA2F-4971-4430-9C51-D04F0CC3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6806-2BBA-4A43-B705-A00761A8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38D6C-43A9-4ECD-9566-4C5DC758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772B2-5C2E-4362-95E4-C111533F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674E0-6D9E-4EFC-A707-FF098CCF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1A9E8-ED86-4821-8BDB-B33F0867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1EB33-6C49-426A-87D8-03430340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B6809-B13B-434D-9F8A-0C593951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B47F0-4292-4694-9ECB-C1E4DCA1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558F5-5E28-4FE2-A0F9-EAC8B96F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F0B0B-90A4-4CC3-97F6-E5B8F114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7526BF-B4C8-4170-8E0F-4F9F3917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CBEC-A151-482A-8CAC-9BA09F16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708FEE-AEF0-4858-9051-6E5AB718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EF546D-A89D-40C3-B81A-07BA630A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BE8BA2-52AF-43AB-94AE-9C6051A2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4FE06A-D8B1-4F64-B28D-5BCBE371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2E9AD3-26F7-4511-AC80-8E7454B4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BCA0F4-4EF2-4AEB-A977-4751E365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691C87-D0D7-4B56-A4E8-A6BEBB0B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AFC1AF-9C34-4AF7-ADBE-F5CD5BFD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14D46B-81FE-42BE-99C1-EFDE46A8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380FB3-FB93-408C-A7A8-7BF8E6434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5FB3-DBAA-4066-9977-0F0A66E5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996278-F7DD-45CE-8280-FFAD2F3A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6D51F-1F51-45B6-8853-C431BECF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0B939-FC79-4224-B294-BFEA16CF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19523-59F2-4512-B3D9-5F86346A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6DB20-7197-4FBA-8DDE-B4E1ECC7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525AC-33F9-4F63-995F-440F53C2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EEA59-9E96-44A7-AB62-B6E75DE1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6C701-B8F3-46AE-9A14-0331746E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A4252-F98C-4CEE-991E-55CBA4C2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F8BD9-D6B2-4E7A-9A78-70C877E2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A163-4D96-4918-8172-56AFE0DF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42162-0075-4E7C-A41E-859EC69F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ED2D8-0E57-430B-BF1F-3317D01C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82070-BEC5-4022-94B2-C85F55B5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FB4C9-0BEC-4D80-8A48-25D120D4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95412-C4C1-4F94-AA63-75EEDDB6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B5D31-9F86-46EF-B2B6-C26A2EDB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A037D-326B-48AB-86EE-6E1B4BBC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465AD-63B0-44B9-8F70-2BA7B38E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7E1F4-05AE-43E1-815B-9D92BC77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AE307-D288-4899-BB07-A6CD0F6B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F274-3378-413E-BCCF-F8B7428D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B3FF6-D19C-494A-8845-216BF9F6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9915A-42E6-4692-A400-1FB5F2D0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A27F9-897A-423B-82B7-1230A195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8EEA7-7A57-4067-AD54-D3167E31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3F20C-89ED-4F70-A22F-3E3E9010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2C5094-3FC2-44B9-A47A-07D980E3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FD94F0-2393-46E2-93D7-4C8C0B56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6EE2B-8589-4F9F-92B0-D865452C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026ADD-5AA2-4B50-AE48-D13BF877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EFF43-FB48-44A3-8E72-ECB255A2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B48A-EA5A-4C74-BEDB-8B204BB9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34AC74-B204-49E4-AC03-12C185B2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181C7D-BD15-4150-A55F-1F4E8FD0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D95151-E92D-47F8-80FB-34DF2C92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E6C93-14D3-49B6-B003-A35D9F56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1016F-67E2-4A72-A7EE-0823A779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570CA0-E42B-42B7-BE7D-0907F643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6CD6C8-D03D-4CDC-A19C-4F22F759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A17A-DBCF-44B5-BBE6-00ECB658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1EF7-73D2-441F-BDE8-2CB13756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D339-E9F9-4B88-AA85-323A9151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63A0-68E0-4650-A5C8-78D72EC4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D618-6F76-4DD7-9C29-2C746B5E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B6C2-A260-44BD-8D37-D1FB0410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829A-1C1D-4DCC-97B9-37C547BC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4924-325D-4D8E-AACE-606FAA63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AE3E-440F-44DF-8E2B-3559DF80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226C-26D7-4A5E-886F-7FCE8CC3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E0957-5E8D-4167-BED2-DE7D6795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25E8E-4FE8-436E-AC09-DC129BFC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34E8C-29EE-4C7F-8215-30EFA33D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4FD3F-6613-4BE1-A48E-A9E67F3F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454A4-5294-4E78-B01F-D62471F3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4517-2AF9-468B-AC91-9CA6F934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3E2E1-5075-40B7-9F51-25DC6C2D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85104-87E9-4321-9A9B-641ECFC2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08BD1-349C-4388-911C-126AC078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47A6B-9F58-47FE-A14A-BC697724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0E7C9-1078-441F-ACF6-BCEC4212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944A4-6530-4198-9F6E-546D0BB7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2A2A1-3BE5-4416-A8FE-E827A49D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A2339-BA75-46EF-97AF-5B5EFDBE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62099-341D-45E8-B1DE-157D57CD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C378E-7B76-460C-AD60-7C9907BD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A567-10AA-4CAE-A0B2-0E6C3886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8473E-EA97-4D64-89B4-C4CB280B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0F460-1CF2-4B47-8126-6BFF7B0A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AD18A-86B8-46B7-AD6E-0F907BE0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DB664-F553-484E-B1C2-70922D27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2165A-0BE9-4C6C-9B33-F8EC96EC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2AEBA-5C2C-45D0-B717-767EAAB4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64DAD-A4A4-41DA-9469-7AADA321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40B0E-582B-435D-91C8-B22C23AC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83936-314F-497D-A362-967446F1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ED057-2A8A-4BBC-90F9-805D8761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D69B-F489-4E0F-8954-B70E2B56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66ECB-8095-485D-8F52-496D52A2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B2CF6-B741-457A-ABE9-412A2870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F26A2-5DA1-45B7-859A-E325654E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AE60A-18F1-4F9E-A95D-0FFA0BC8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82D58-B04E-4A54-BD0F-D2512E06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9D266-3B73-4847-BBC7-E0E30F9B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354F2-2D89-4C89-BF7E-E4F11F42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066D1-132A-4AA1-8771-5B808AC8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BD559-BF9C-4A2A-9AC9-28CFBA66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9CF5D-D41E-4C01-959C-A1832F8E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0E85-76F1-41BA-B757-4B2CFA91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34C16-6176-47DE-9742-6A0913B6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7D485-F190-4D42-ACC8-A46CE6A8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331A7-F02B-48B0-A50D-E32113F7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3E8F2-46A1-4550-B7EC-3B581657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D5109-B363-4B15-95FC-EDC9903E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70496-90DF-45F9-A872-198CE492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9E9F3-4BB8-4FF7-BB5E-8F49429D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0AE0C-2280-432D-A9E1-C42D48C6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55E59-F81D-47F6-8DE7-86981B08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AA7E6-CF9D-4356-8D7B-F06EB968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0321-A3B2-4F35-9794-AC634B08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50A0E-C1FF-46B0-B04A-1DF6AE1C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9DF4A-C7BE-4AF8-BDC0-C60FD153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EFCD0-E0C8-4499-854B-BA794662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1FE799-F857-46CF-B1F9-61B816FC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4D1B9D-2C30-4054-9B59-33D7DD24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0DABA4-A133-4D91-9023-54A4E1F3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270046-BBDF-4DC4-88E3-8A4A1A71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4523D0-1004-4ABF-AAD3-9AA1B7E6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9D7007-6DDD-4E00-90B0-00F7D4DF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A68438-36E0-4764-A1B8-DAA9E656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F5EA-D4A1-4CDE-ACC4-CA8686B0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51C675-B313-4542-A980-005A735D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16947D-81BA-43BA-AA89-470209C8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2CB71D-A809-472F-BCB7-FBD86DC4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E8821E-9DE0-49D4-B187-239F0C51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621657-4DA1-4C52-9537-FA5768CA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55887-EF18-42E6-87A0-96E5A3E7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15D29-3BF3-4653-9C78-D076CFAE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A43E2-10A1-4596-962E-8FAB6885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DCC24-52AD-4D68-9436-F77D3DB9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04B38-B207-47C0-A3A8-4F79A722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4B0B-B733-492D-BC09-C49D46E7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9C5E1-EC49-47BD-89B8-FF387255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540B4-3FB6-4C96-AE91-5664888E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BEA41-171E-4ADA-869D-255BED70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92258-BD58-4A9E-91C4-F68D57F7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ACED2-4FD7-4EC5-9981-A207BD20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DDD10-1ACE-400A-99C8-E6A6010A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0DAD1-14B6-4AF9-9310-6798F9C2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00823-24A8-4EBB-AD04-C89BB1CA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BE4AA-5E6C-407E-BB6D-D66DB29B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3A657-284C-4451-9AC1-C4A2E636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7D6B-A6D4-4533-B9EF-4E32C17E7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5828-6D90-427E-B28D-7EC89F78A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7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dt" idx="3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ftr" idx="3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sldNum" idx="3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D54F-C82A-4167-85E3-2B0BFA446759}" type="slidenum">
              <a:rPr b="0" lang="en-US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 type="dt" idx="3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 type="ftr" idx="3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 type="sldNum" idx="3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2263-F259-4505-A0A7-59A316E6F1C6}" type="slidenum">
              <a:rPr b="0" lang="en-US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7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dt" idx="3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ftr" idx="3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 type="sldNum" idx="3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279F-5B19-4CC5-8F82-07B7598D10F5}" type="slidenum">
              <a:rPr b="0" lang="en-US" sz="11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D700-5243-446E-B27C-C7843DD5B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0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5968-C7B4-4BFC-A151-F251624392D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4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4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6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2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4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6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2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C074-18D4-45E7-913C-3656E0008B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E1F3-0915-447C-9997-52A5E2750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16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17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18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9386-790A-4576-A58D-07B25FA4B7BF}" type="slidenum">
              <a:rPr b="0" lang="en-US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2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2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2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2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2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3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3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3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484C-5D68-4882-B989-0CF5A7695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8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882F-7D1D-4F51-8159-AF2CA98222C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2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2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4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42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4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6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7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9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0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1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2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3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6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9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1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2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3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8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4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5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9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0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1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3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5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6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1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2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3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8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9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25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93D1-ACB3-43E8-8789-7FADA414F95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cript MT Bold"/>
              </a:rPr>
              <a:t>Mi Vacacion en Antigua, Guatema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y: Liam Gallinag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7" name="Picture 5" descr="346658_13"/>
          <p:cNvPicPr/>
          <p:nvPr/>
        </p:nvPicPr>
        <p:blipFill>
          <a:blip r:embed="rId1"/>
          <a:stretch/>
        </p:blipFill>
        <p:spPr>
          <a:xfrm rot="1642800">
            <a:off x="380520" y="3733560"/>
            <a:ext cx="3305160" cy="247644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6" descr="untitled 3"/>
          <p:cNvPicPr/>
          <p:nvPr/>
        </p:nvPicPr>
        <p:blipFill>
          <a:blip r:embed="rId2"/>
          <a:stretch/>
        </p:blipFill>
        <p:spPr>
          <a:xfrm>
            <a:off x="4724280" y="4495680"/>
            <a:ext cx="2743200" cy="205452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7" descr="untitled 4"/>
          <p:cNvPicPr/>
          <p:nvPr/>
        </p:nvPicPr>
        <p:blipFill>
          <a:blip r:embed="rId3"/>
          <a:stretch/>
        </p:blipFill>
        <p:spPr>
          <a:xfrm rot="18954600">
            <a:off x="5880240" y="1684080"/>
            <a:ext cx="2766960" cy="214308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8" descr="imagesCA303NCZ"/>
          <p:cNvPicPr/>
          <p:nvPr/>
        </p:nvPicPr>
        <p:blipFill>
          <a:blip r:embed="rId4"/>
          <a:stretch/>
        </p:blipFill>
        <p:spPr>
          <a:xfrm rot="2635800">
            <a:off x="477720" y="1422360"/>
            <a:ext cx="2378160" cy="1541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Rockwell Condensed"/>
              </a:rPr>
              <a:t>Día numero uno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4014360"/>
            <a:ext cx="8229600" cy="20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rida Mam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 f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í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tel Casa del Parque en Antigua. Comprobado en temprano y p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é el día en el hote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embalaje. El tiempo es muy calor y es tiempo bien. Yo na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é en la pisina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mbié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3" name="Picture 4" descr="346658_16"/>
          <p:cNvPicPr/>
          <p:nvPr/>
        </p:nvPicPr>
        <p:blipFill>
          <a:blip r:embed="rId1"/>
          <a:stretch/>
        </p:blipFill>
        <p:spPr>
          <a:xfrm rot="19209600">
            <a:off x="301680" y="1252080"/>
            <a:ext cx="2430360" cy="182268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5" descr="346658_13"/>
          <p:cNvPicPr/>
          <p:nvPr/>
        </p:nvPicPr>
        <p:blipFill>
          <a:blip r:embed="rId2"/>
          <a:stretch/>
        </p:blipFill>
        <p:spPr>
          <a:xfrm>
            <a:off x="3200400" y="1981080"/>
            <a:ext cx="2795760" cy="209412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6" descr="346658_1"/>
          <p:cNvPicPr/>
          <p:nvPr/>
        </p:nvPicPr>
        <p:blipFill>
          <a:blip r:embed="rId3"/>
          <a:stretch/>
        </p:blipFill>
        <p:spPr>
          <a:xfrm rot="2077800">
            <a:off x="6592680" y="1139760"/>
            <a:ext cx="2112840" cy="1582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Rockwell Condensed"/>
              </a:rPr>
              <a:t>Día numero do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rida Mam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 f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ahoma"/>
              </a:rPr>
              <a:t>í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unos lugares muy famoso en Antigua. Yo f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t Barrington, Shirley Heights, y Fort Jame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muy interesa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8" name="Picture 6" descr="images"/>
          <p:cNvPicPr/>
          <p:nvPr/>
        </p:nvPicPr>
        <p:blipFill>
          <a:blip r:embed="rId1"/>
          <a:stretch/>
        </p:blipFill>
        <p:spPr>
          <a:xfrm rot="20888400">
            <a:off x="228240" y="1447560"/>
            <a:ext cx="2895480" cy="143820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7" descr="untitled 2"/>
          <p:cNvPicPr/>
          <p:nvPr/>
        </p:nvPicPr>
        <p:blipFill>
          <a:blip r:embed="rId2"/>
          <a:stretch/>
        </p:blipFill>
        <p:spPr>
          <a:xfrm rot="2390400">
            <a:off x="6395760" y="1098720"/>
            <a:ext cx="2423880" cy="170172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8" descr="untitled 3"/>
          <p:cNvPicPr/>
          <p:nvPr/>
        </p:nvPicPr>
        <p:blipFill>
          <a:blip r:embed="rId3"/>
          <a:stretch/>
        </p:blipFill>
        <p:spPr>
          <a:xfrm>
            <a:off x="3429000" y="14479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6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Rockwell Condensed"/>
              </a:rPr>
              <a:t>Día numero tr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3274560"/>
            <a:ext cx="8229600" cy="27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rida Mam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y, f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í a la playa. Fuí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mitage Bay, St. John's. No nesecitas preocuparse, yo lle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é crème protect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Picture 4" descr="imagesCA8MFHVH"/>
          <p:cNvPicPr/>
          <p:nvPr/>
        </p:nvPicPr>
        <p:blipFill>
          <a:blip r:embed="rId1"/>
          <a:stretch/>
        </p:blipFill>
        <p:spPr>
          <a:xfrm rot="20221800">
            <a:off x="5409720" y="685440"/>
            <a:ext cx="3391200" cy="189864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5" descr="untitled 4"/>
          <p:cNvPicPr/>
          <p:nvPr/>
        </p:nvPicPr>
        <p:blipFill>
          <a:blip r:embed="rId2"/>
          <a:stretch/>
        </p:blipFill>
        <p:spPr>
          <a:xfrm>
            <a:off x="990720" y="1447920"/>
            <a:ext cx="281916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3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  <a:ea typeface="Tahoma"/>
              </a:rPr>
              <a:t>ía numero cuatr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1680" y="3428640"/>
            <a:ext cx="8540640" cy="26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rida Mam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tiempo hoy es muy bien así yo f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í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ursionismo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ando yo hizo el pico, el ver es asombroso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7" name="Picture 4" descr="imagesCA303NCZ"/>
          <p:cNvPicPr/>
          <p:nvPr/>
        </p:nvPicPr>
        <p:blipFill>
          <a:blip r:embed="rId1"/>
          <a:stretch/>
        </p:blipFill>
        <p:spPr>
          <a:xfrm rot="1168200">
            <a:off x="380520" y="457200"/>
            <a:ext cx="2800440" cy="181440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5" descr="imagesCAPQY38C"/>
          <p:cNvPicPr/>
          <p:nvPr/>
        </p:nvPicPr>
        <p:blipFill>
          <a:blip r:embed="rId2"/>
          <a:stretch/>
        </p:blipFill>
        <p:spPr>
          <a:xfrm>
            <a:off x="4800600" y="1371600"/>
            <a:ext cx="3276720" cy="1716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504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DÍA ULTÍMA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609480" y="3733560"/>
            <a:ext cx="79250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ahoma"/>
              </a:rPr>
              <a:t>Querida Mama,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ahoma"/>
              </a:rPr>
              <a:t>Hoy es mi </a:t>
            </a:r>
            <a:r>
              <a:rPr b="0" lang="es-ES" sz="3000" spc="-1" strike="noStrike">
                <a:solidFill>
                  <a:srgbClr val="ffffff"/>
                </a:solidFill>
                <a:latin typeface="Tahoma"/>
                <a:ea typeface="Tahoma"/>
              </a:rPr>
              <a:t>día ultíma en Guatemala. Yo tiene diversión pero yo nesescita volver a casa.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11" name="Picture 4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5720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2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4:17:52Z</dcterms:created>
  <dc:creator>gallinaghlia</dc:creator>
  <dc:description/>
  <dc:language>en-US</dc:language>
  <cp:lastModifiedBy>Owner</cp:lastModifiedBy>
  <dcterms:modified xsi:type="dcterms:W3CDTF">2011-12-01T20:29:41Z</dcterms:modified>
  <cp:revision>10</cp:revision>
  <dc:subject/>
  <dc:title>Mi Vacaciones en Guatemala</dc:title>
</cp:coreProperties>
</file>